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8B5F0-3400-4766-9CCD-6FF02F948F4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рода Черноморского побережья Кавка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B152D-B22B-488B-91BB-2DB37DAB57A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Красная кни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16B70-5535-4BFB-AA0C-EE01E1163A4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Calibri"/>
              </a:rPr>
              <a:t>Экологические</a:t>
            </a: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b050"/>
                </a:solidFill>
                <a:latin typeface="Calibri"/>
              </a:rPr>
              <a:t>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чные воды и различный мусор попадают в море и загрязняют 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72E14-4691-421A-8DB3-82A838ECEA6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b050"/>
                </a:solidFill>
                <a:latin typeface="Calibri"/>
              </a:rPr>
              <a:t>Человек у мор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ерега Чёрного моря – это место, куда приезжают для отдыха и лечения многие тысячи людей. Здесь расположен красивейший город – курорт Сочи. В нём построены многочисленные санатории, дома отдыха, пансиона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дна из главных достопримечательностей города Сочи – Дендрарий. Это красивый парк, где собраны растения со всего 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A79DF-0729-40A2-A988-719DA2BF98C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Погода на черноморском побережье Кавказа очень тёплая. Здесь умеренно жаркое лето. Зима здесь тёплая благодаря морю и горам. Море за лето нагревается, а зимой отдаёт своё тепло воздуху. Горы не пропускают сюда холодных северных вет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Почвы Черноморского побережья Кавказа плодородны, а растительность богата</a:t>
            </a:r>
            <a:r>
              <a:rPr b="1" lang="ru-RU" sz="1000" spc="-1" strike="noStrike">
                <a:solidFill>
                  <a:srgbClr val="ffc000"/>
                </a:solidFill>
                <a:latin typeface="Calibri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9403E-7101-4552-9200-1B1D58D5C8A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Calibri"/>
              </a:rPr>
              <a:t>Растения Черноморского побережья Кавка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лесах на склонах гор растут широколиственные деревья – дуб, бук, каштан настоящ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0C9B7-5DB5-4183-A068-9A88A509D5E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арках и на городских улицах растут красивые растения, привезённые из разных тёплых стран: кипарисы, магнолии, пальмы. Эти растения остаются круглый год зелёны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1A8F8-15B3-4C05-B23F-E43B32A3EFC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адах зреют грецкие орехи, инжир, абрикосы, перс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2CB84-EFE2-448E-B951-D350CA76913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Calibri"/>
              </a:rPr>
              <a:t>Животный мир Черноморского побережья Кавказа очень разнообразен</a:t>
            </a:r>
            <a:r>
              <a:rPr b="1" lang="ru-RU" sz="1100" spc="-1" strike="noStrike">
                <a:solidFill>
                  <a:srgbClr val="00b050"/>
                </a:solidFill>
                <a:latin typeface="Calibri"/>
              </a:rPr>
              <a:t>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далека слышны стрекотание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цикад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питаются соком раст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76091-25C8-43B1-964E-82B358B4989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и зеленых листье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чется хищны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огомол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жид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ычу – мух и друг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еком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дкий крупный жу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вказская жужелиц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тается улит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F7551-41AB-4B69-8C5F-5091141DD98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Calibri"/>
              </a:rPr>
              <a:t>Пти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берегу моря живут чайки, бакланы, которые кормятся рыб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F6E5E-D748-4481-AE69-ACD3646A2FF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Calibri"/>
              </a:rPr>
              <a:t>Морские обитат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ду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рские иг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ра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рской конё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льф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AF75E-9BA2-4A3E-8C38-0EF9A32B2D2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2A5D-ABCC-4F94-AC4D-960895D03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2223-362A-497D-9DF1-5A3344860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0015-9997-49CF-BD30-9B8F1FEA9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6DA3-1C4A-4DEE-8AF6-12D775AD2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B72D-C0C7-41E2-AE44-83CB5DF78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545A-DC56-4DE2-B49C-DE7283C14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A938-FA1E-4BB4-9685-6E176119D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C7D2-3415-425E-B482-19409EA2D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9DDB-4212-4BDD-B0EC-C64239076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19A0-58D0-4187-ABDF-37C17AE3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B1BB-AEC2-49E7-89B2-733A0F34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B51C-1874-4153-B200-B1AF85B4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644EF-F163-4D41-8848-257CA49367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рирода Черноморского побережья Кавказ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892080" y="5268960"/>
            <a:ext cx="644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Плотников Данила  4 «А» клас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Arial"/>
              </a:rPr>
              <a:t>Красная книг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609480" y="33526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ис ягод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3"/>
          <p:cNvSpPr/>
          <p:nvPr/>
        </p:nvSpPr>
        <p:spPr>
          <a:xfrm>
            <a:off x="3809880" y="33526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глиц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4"/>
          <p:cNvSpPr/>
          <p:nvPr/>
        </p:nvSpPr>
        <p:spPr>
          <a:xfrm>
            <a:off x="1905120" y="579132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ужел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6"/>
          <p:cNvSpPr/>
          <p:nvPr/>
        </p:nvSpPr>
        <p:spPr>
          <a:xfrm>
            <a:off x="6781680" y="34290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мш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7"/>
          <p:cNvSpPr/>
          <p:nvPr/>
        </p:nvSpPr>
        <p:spPr>
          <a:xfrm>
            <a:off x="5562720" y="579132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фал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Рисунок 1" descr=""/>
          <p:cNvPicPr/>
          <p:nvPr/>
        </p:nvPicPr>
        <p:blipFill>
          <a:blip r:embed="rId1"/>
          <a:stretch/>
        </p:blipFill>
        <p:spPr>
          <a:xfrm>
            <a:off x="1328760" y="4114800"/>
            <a:ext cx="22525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2" descr=""/>
          <p:cNvPicPr/>
          <p:nvPr/>
        </p:nvPicPr>
        <p:blipFill>
          <a:blip r:embed="rId2"/>
          <a:stretch/>
        </p:blipFill>
        <p:spPr>
          <a:xfrm>
            <a:off x="5181480" y="4114800"/>
            <a:ext cx="2248200" cy="152388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3" descr=""/>
          <p:cNvPicPr/>
          <p:nvPr/>
        </p:nvPicPr>
        <p:blipFill>
          <a:blip r:embed="rId3"/>
          <a:stretch/>
        </p:blipFill>
        <p:spPr>
          <a:xfrm>
            <a:off x="3429000" y="1752480"/>
            <a:ext cx="2133720" cy="144792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4" descr=""/>
          <p:cNvPicPr/>
          <p:nvPr/>
        </p:nvPicPr>
        <p:blipFill>
          <a:blip r:embed="rId4"/>
          <a:stretch/>
        </p:blipFill>
        <p:spPr>
          <a:xfrm>
            <a:off x="6286680" y="1752480"/>
            <a:ext cx="2095200" cy="144792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5" descr=""/>
          <p:cNvPicPr/>
          <p:nvPr/>
        </p:nvPicPr>
        <p:blipFill>
          <a:blip r:embed="rId5"/>
          <a:stretch/>
        </p:blipFill>
        <p:spPr>
          <a:xfrm>
            <a:off x="419040" y="1752480"/>
            <a:ext cx="2438640" cy="147168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Экологические</a:t>
            </a: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пробл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точные воды и различный мусор попадают в море и загрязняют ег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33520" y="2819520"/>
            <a:ext cx="8229600" cy="22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юди, приезжающие сюда              отдыхать, не всегда относятся к природе бережно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Arial"/>
              </a:rPr>
              <a:t>Человек у мор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4000"/>
          </a:bodyPr>
          <a:p>
            <a:pPr marL="150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рега Чёрного моря – это место, куда приезжают для отдыха и лечения многие тысячи людей. Здесь расположен красивейший город – курорт Сочи. В нём построены многочисленные санатории, дома отдыха, пансиона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0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дна из главных достопримечательностей города Сочи – Дендрарий. Это красивый парк, где собраны растения со всего ми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C:\Users\Оксана\Desktop\Рисунок3.jpg"/>
          <p:cNvPicPr/>
          <p:nvPr/>
        </p:nvPicPr>
        <p:blipFill>
          <a:blip r:embed="rId1"/>
          <a:stretch/>
        </p:blipFill>
        <p:spPr>
          <a:xfrm>
            <a:off x="1371600" y="4038480"/>
            <a:ext cx="6113520" cy="242424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050"/>
                            </p:stCondLst>
                            <p:childTnLst>
                              <p:par>
                                <p:cTn id="23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5"/>
          <p:cNvSpPr/>
          <p:nvPr/>
        </p:nvSpPr>
        <p:spPr>
          <a:xfrm>
            <a:off x="152280" y="1676520"/>
            <a:ext cx="81439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Погода на черноморском побережье Кавказа очень тёплая. Здесь умеренно жаркое лето. Зима здесь тёплая благодаря морю и горам. Море за лето нагревается, а зимой отдаёт своё тепло воздуху. Горы не пропускают сюда холодных северных вет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Почвы Черноморского побережья Кавказа плодородны, а растительность богата</a:t>
            </a: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Растения Черноморского побережья Кавка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566640" y="5562720"/>
            <a:ext cx="7848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лесах на склонах гор растут широколиственные деревья – дуб, бук, каштан настоящ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963720" y="4870440"/>
            <a:ext cx="185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шт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7097760" y="48340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у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1" descr=""/>
          <p:cNvPicPr/>
          <p:nvPr/>
        </p:nvPicPr>
        <p:blipFill>
          <a:blip r:embed="rId1"/>
          <a:stretch/>
        </p:blipFill>
        <p:spPr>
          <a:xfrm>
            <a:off x="6573960" y="1906560"/>
            <a:ext cx="2417760" cy="29275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5" descr=""/>
          <p:cNvPicPr/>
          <p:nvPr/>
        </p:nvPicPr>
        <p:blipFill>
          <a:blip r:embed="rId2"/>
          <a:stretch/>
        </p:blipFill>
        <p:spPr>
          <a:xfrm>
            <a:off x="3333600" y="1857240"/>
            <a:ext cx="2914920" cy="297684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6" descr=""/>
          <p:cNvPicPr/>
          <p:nvPr/>
        </p:nvPicPr>
        <p:blipFill>
          <a:blip r:embed="rId3"/>
          <a:stretch/>
        </p:blipFill>
        <p:spPr>
          <a:xfrm>
            <a:off x="297000" y="1857240"/>
            <a:ext cx="2759040" cy="2976840"/>
          </a:xfrm>
          <a:prstGeom prst="rect">
            <a:avLst/>
          </a:prstGeom>
          <a:ln w="0">
            <a:noFill/>
          </a:ln>
        </p:spPr>
      </p:pic>
      <p:sp>
        <p:nvSpPr>
          <p:cNvPr id="61" name="TextBox 7"/>
          <p:cNvSpPr/>
          <p:nvPr/>
        </p:nvSpPr>
        <p:spPr>
          <a:xfrm>
            <a:off x="4493160" y="4916520"/>
            <a:ext cx="7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у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2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09480" y="5331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арках и на городских улицах растут красивые растения, привезённые из разных тёплых стран: кипарисы, магнолии, пальмы. Эти растения остаются круглый год зелёны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642960" y="58672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ипари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3581280" y="58672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гнол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6858000" y="58672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аль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1" descr=""/>
          <p:cNvPicPr/>
          <p:nvPr/>
        </p:nvPicPr>
        <p:blipFill>
          <a:blip r:embed="rId1"/>
          <a:stretch/>
        </p:blipFill>
        <p:spPr>
          <a:xfrm>
            <a:off x="3429000" y="2279520"/>
            <a:ext cx="2666880" cy="336888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2" descr=""/>
          <p:cNvPicPr/>
          <p:nvPr/>
        </p:nvPicPr>
        <p:blipFill>
          <a:blip r:embed="rId2"/>
          <a:stretch/>
        </p:blipFill>
        <p:spPr>
          <a:xfrm>
            <a:off x="380880" y="2270160"/>
            <a:ext cx="2819520" cy="330840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3" descr=""/>
          <p:cNvPicPr/>
          <p:nvPr/>
        </p:nvPicPr>
        <p:blipFill>
          <a:blip r:embed="rId3"/>
          <a:stretch/>
        </p:blipFill>
        <p:spPr>
          <a:xfrm>
            <a:off x="6248520" y="2279520"/>
            <a:ext cx="2743200" cy="336888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адах зреют грецкие орехи, инжир, абрикосы, персик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3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3048120" cy="2743200"/>
          </a:xfrm>
          <a:prstGeom prst="rect">
            <a:avLst/>
          </a:prstGeom>
          <a:ln w="0">
            <a:noFill/>
          </a:ln>
        </p:spPr>
      </p:pic>
      <p:sp>
        <p:nvSpPr>
          <p:cNvPr id="73" name="TextBox 4"/>
          <p:cNvSpPr/>
          <p:nvPr/>
        </p:nvSpPr>
        <p:spPr>
          <a:xfrm>
            <a:off x="714960" y="4876920"/>
            <a:ext cx="17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брик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5" descr=""/>
          <p:cNvPicPr/>
          <p:nvPr/>
        </p:nvPicPr>
        <p:blipFill>
          <a:blip r:embed="rId2"/>
          <a:stretch/>
        </p:blipFill>
        <p:spPr>
          <a:xfrm>
            <a:off x="3429000" y="1905120"/>
            <a:ext cx="2676600" cy="2743200"/>
          </a:xfrm>
          <a:prstGeom prst="rect">
            <a:avLst/>
          </a:prstGeom>
          <a:ln w="0">
            <a:noFill/>
          </a:ln>
        </p:spPr>
      </p:pic>
      <p:sp>
        <p:nvSpPr>
          <p:cNvPr id="75" name="TextBox 6"/>
          <p:cNvSpPr/>
          <p:nvPr/>
        </p:nvSpPr>
        <p:spPr>
          <a:xfrm>
            <a:off x="4348080" y="487692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ж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7" descr=""/>
          <p:cNvPicPr/>
          <p:nvPr/>
        </p:nvPicPr>
        <p:blipFill>
          <a:blip r:embed="rId3"/>
          <a:stretch/>
        </p:blipFill>
        <p:spPr>
          <a:xfrm>
            <a:off x="6248520" y="1905120"/>
            <a:ext cx="2682720" cy="2743200"/>
          </a:xfrm>
          <a:prstGeom prst="rect">
            <a:avLst/>
          </a:prstGeom>
          <a:ln w="0">
            <a:noFill/>
          </a:ln>
        </p:spPr>
      </p:pic>
      <p:sp>
        <p:nvSpPr>
          <p:cNvPr id="77" name="TextBox 8"/>
          <p:cNvSpPr/>
          <p:nvPr/>
        </p:nvSpPr>
        <p:spPr>
          <a:xfrm>
            <a:off x="7398360" y="4876920"/>
            <a:ext cx="14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с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Животный мир Черноморского побережья Кавказа очень разнообразен</a:t>
            </a: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далека слышны стрекотание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цикад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и питаются соком раст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C:\Users\Оксана\Desktop\Рисунок7.jpg"/>
          <p:cNvPicPr/>
          <p:nvPr/>
        </p:nvPicPr>
        <p:blipFill>
          <a:blip r:embed="rId1"/>
          <a:stretch/>
        </p:blipFill>
        <p:spPr>
          <a:xfrm>
            <a:off x="2414520" y="3213000"/>
            <a:ext cx="4403880" cy="271944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23800" y="3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еди зеленых листье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ячется хищн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огомол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жида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бычу – мух и друг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секом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дкий крупный жу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вказская жужелиц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итается улит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3" descr=""/>
          <p:cNvPicPr/>
          <p:nvPr/>
        </p:nvPicPr>
        <p:blipFill>
          <a:blip r:embed="rId1"/>
          <a:stretch/>
        </p:blipFill>
        <p:spPr>
          <a:xfrm>
            <a:off x="5486400" y="53352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4" descr=""/>
          <p:cNvPicPr/>
          <p:nvPr/>
        </p:nvPicPr>
        <p:blipFill>
          <a:blip r:embed="rId2"/>
          <a:stretch/>
        </p:blipFill>
        <p:spPr>
          <a:xfrm>
            <a:off x="4876920" y="3581280"/>
            <a:ext cx="2828880" cy="250992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Пти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берегу моря живут чайки, бакланы, которые кормятся рыб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1257480" y="559260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акл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6095880" y="57913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ай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1" descr=""/>
          <p:cNvPicPr/>
          <p:nvPr/>
        </p:nvPicPr>
        <p:blipFill>
          <a:blip r:embed="rId1"/>
          <a:stretch/>
        </p:blipFill>
        <p:spPr>
          <a:xfrm>
            <a:off x="609480" y="2666880"/>
            <a:ext cx="3048120" cy="273528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2" descr=""/>
          <p:cNvPicPr/>
          <p:nvPr/>
        </p:nvPicPr>
        <p:blipFill>
          <a:blip r:embed="rId2"/>
          <a:stretch/>
        </p:blipFill>
        <p:spPr>
          <a:xfrm>
            <a:off x="5257800" y="2666880"/>
            <a:ext cx="3200400" cy="271800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Морские обитате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4"/>
          <p:cNvSpPr/>
          <p:nvPr/>
        </p:nvSpPr>
        <p:spPr>
          <a:xfrm>
            <a:off x="7010280" y="630540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льф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5"/>
          <p:cNvSpPr/>
          <p:nvPr/>
        </p:nvSpPr>
        <p:spPr>
          <a:xfrm>
            <a:off x="4143240" y="518796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а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6"/>
          <p:cNvSpPr/>
          <p:nvPr/>
        </p:nvSpPr>
        <p:spPr>
          <a:xfrm>
            <a:off x="811080" y="63054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рские иг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7"/>
          <p:cNvSpPr/>
          <p:nvPr/>
        </p:nvSpPr>
        <p:spPr>
          <a:xfrm>
            <a:off x="1193760" y="34290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ду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9"/>
          <p:cNvSpPr/>
          <p:nvPr/>
        </p:nvSpPr>
        <p:spPr>
          <a:xfrm>
            <a:off x="6400800" y="342900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рской конё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1" descr=""/>
          <p:cNvPicPr/>
          <p:nvPr/>
        </p:nvPicPr>
        <p:blipFill>
          <a:blip r:embed="rId1"/>
          <a:stretch/>
        </p:blipFill>
        <p:spPr>
          <a:xfrm>
            <a:off x="6534000" y="4343400"/>
            <a:ext cx="1955880" cy="196200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3" descr=""/>
          <p:cNvPicPr/>
          <p:nvPr/>
        </p:nvPicPr>
        <p:blipFill>
          <a:blip r:embed="rId2"/>
          <a:stretch/>
        </p:blipFill>
        <p:spPr>
          <a:xfrm>
            <a:off x="851040" y="1447920"/>
            <a:ext cx="1904760" cy="193500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4" descr=""/>
          <p:cNvPicPr/>
          <p:nvPr/>
        </p:nvPicPr>
        <p:blipFill>
          <a:blip r:embed="rId3"/>
          <a:stretch/>
        </p:blipFill>
        <p:spPr>
          <a:xfrm>
            <a:off x="3838680" y="2971800"/>
            <a:ext cx="1904760" cy="207504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5" descr=""/>
          <p:cNvPicPr/>
          <p:nvPr/>
        </p:nvPicPr>
        <p:blipFill>
          <a:blip r:embed="rId4"/>
          <a:stretch/>
        </p:blipFill>
        <p:spPr>
          <a:xfrm>
            <a:off x="851040" y="4343400"/>
            <a:ext cx="1904760" cy="182880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6" descr=""/>
          <p:cNvPicPr/>
          <p:nvPr/>
        </p:nvPicPr>
        <p:blipFill>
          <a:blip r:embed="rId5"/>
          <a:stretch/>
        </p:blipFill>
        <p:spPr>
          <a:xfrm>
            <a:off x="6534000" y="1447920"/>
            <a:ext cx="1955880" cy="198108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nila</dc:creator>
  <dc:description/>
  <dc:language>en-US</dc:language>
  <cp:lastModifiedBy>LEGION2</cp:lastModifiedBy>
  <dcterms:modified xsi:type="dcterms:W3CDTF">2015-04-24T09:21:18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